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ct" ContentType="image/x-pict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4EBE-C999-4BD1-86E6-A16F1D2BEE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an idea – we can choose any design or the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549F-74A9-4ED0-9EFF-270EBCAA92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AD59-EA4A-4994-84B9-7EFD61D879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D511-5ACA-4F76-84B3-7673813829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don’t know if we want to use this, but I thought it looked cool and it has a lot of good inf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CAA7-0273-4171-BC07-679A28DA61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A59E-7927-4D20-86EE-BB0999AB5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7326-BD08-477C-BE8D-FF2A5693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0730-F1BD-4A74-96D1-A95184890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926B-CAD7-4682-B5BC-0E8FFDCE1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CB95-E11C-4A6E-9785-847C27339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849FA-4B4D-4E49-91A5-48640D54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A60E7-B309-4DD0-BBA3-199F3A42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1C87-D2FE-46F3-A482-496FAE08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335C-7381-4194-B980-EA141B1E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B32F-5A03-42D6-9E33-FF945808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37A9-EC52-4046-84E4-5D058953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0551-42C2-4083-A6B2-EFE2288B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1C9D-79C1-4E0C-8238-07E5BADF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66A9-A5B3-4256-962E-63C36D40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9D6EA-9965-472C-820F-7F3D3D57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2FDD-DC56-4F76-A088-32A18AD05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F455-FA54-4D11-82EA-594591F1F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C7614D-B5A6-4F85-82A1-387CE71B2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90CDC0-2E0A-4C2B-B0B7-BF9D36B1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48817D-8C01-45BC-89A2-859D7A2A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D3DA37-243B-4A1E-B4FF-BDAE2023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9776A5-99AC-40EA-8A5B-94F98347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86EC-AAC5-45D6-81E0-FAD372F2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6725A7-E725-403A-BDB8-76D54B94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BF918B-EF3D-4217-AB23-452856B4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8E3FF8-090E-4D05-9F7D-2E53D7D7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8507EB-A550-4E10-BD37-E733F645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AF20F6-F7F7-46A0-B935-6F53C216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475A29-CA86-489C-A36F-4D5C0C817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229411-8437-4DB9-B2D8-DC190943F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EE8164-3F1F-44D0-BF8F-FCB7B5C7A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040EEE-853B-41AA-B05B-848C3132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182BF3-C8F0-4EC7-B09B-DE6A80CB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FF1B-4C77-42F7-91B2-D72A1DEE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AC4261-540F-4D49-86BB-86C074EA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325D99-674C-43ED-8AEC-EACFAA97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A7BFAE-07F4-4A6F-8D90-CF31499C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7911F6-9C2F-4DB2-9EB6-E344DDE5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C397AB-F647-46E7-93AB-1AAE0FE1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625302-2BA8-4C50-8769-79B2976C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AD7F7B-C4A7-4727-832F-34BDC176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6E3BB7-ADB6-4F2F-B58A-9C71D49AB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3F9F99-0E8F-44D0-8BD1-AFE5F010A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A9C466-CAD8-4B89-A665-E2E0B4F15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8AC9-EF24-4EFE-A691-B75937E9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67873A-158C-41E0-AC53-6C457BEA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DC117A-4CB0-417C-8E3A-45C507E8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A6C6D1-9CA7-4216-9641-643356B0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C4311F-0DC3-4DD5-A306-8061665E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2B1134-270E-4D37-AEC4-12006EAD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913911-66E8-4107-8F70-917E69FA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4BE961-DB41-4E08-B4EE-AD55BEDD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44FA2E-C651-4A8F-B99F-468C8D93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9FFFF0-9649-4BB9-9B6A-DEC35760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68DAF5-DA0D-4975-ACE7-A1AAA6BEE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1530-F077-4E5F-86D7-844DCFC1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E258AC-F805-47B9-AF5D-9762CAA56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23B87-69C0-459E-B1DD-D80D54020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F7D87-A3EA-48FC-A292-1C92CE1E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7B32A-9FF4-4F8F-9DE1-6B7C280D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DF7E6-58C7-4298-ACC4-035ED62F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475E1-2C32-4C0D-B929-F7DBAD62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61341-8B2B-4886-A7B8-79E9DAF8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6D906-0E95-401C-808E-58E4D016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AD85A-0C4F-4B02-BDF2-F1162D6D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007B2-D451-4905-AEF6-229C68CC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761D-8D75-4925-8F05-840CA85E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65B9C-8F73-46C0-81FC-BDE31051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26808-8322-4316-9CB4-97659AECE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A2899-D673-4B85-BEBC-E46D94826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B3910E-859D-4949-8C65-B2E444A4C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243CE2-D552-41A6-A38B-28626F28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0A1A39-7342-46E5-98D6-A176A71B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586C15-AB27-42AB-8F64-E568F2F1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D4083E-604B-40D2-95E9-D338A933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554BC6-896D-444E-93C5-7C569449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287CE8-57C7-415C-B6AA-B162C58D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8E65-3DA0-4A3B-99F1-EE2551B6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AB362D-B176-445E-8C33-FEC8D1B8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451A95-63E7-49DA-8FEB-609C9ED7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A1B6D3-3963-4EBC-8DDD-2167F2C3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960BF4-958C-4D30-B2DF-0BEB13D00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67E707-67D2-4899-AE37-A31F56DA0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08D34-0B56-4541-8B35-C6EDEDA1D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A6E91-D605-4514-8386-B7C3E2A3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6E3AA-01BF-46F4-B8D2-C4B0265A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8CA1C-4160-480B-82AE-243C2DFD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6CF24-81ED-430A-BA9E-8BF9F287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DE50-4449-41D1-938C-ACD19727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7C7C0-ECB0-4ABF-B7E3-898D4A81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FA057-9521-4E03-9C3A-7BAC12BB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3B935-D987-4E0F-A9FB-CAE87BFA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AF2B2-1C69-418D-B5D5-9156D9B6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D92F8-62AA-4A7F-89E4-F81C93DF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B71A3-5B45-4FC0-A35A-9D96F8D14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EBB91-346B-47D5-AE6F-C58B6872E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3EEC-B9F6-4A06-BFDC-DCDCD163D61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BEEF-A6BE-4921-83EB-4B499628FFA9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A2F0-2284-439C-AE23-CAE217A5114D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5E50-C6EC-4BDC-B837-43998A278B4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9DAE-8D99-46E5-9277-EC471CA5973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BCBB-164C-42E4-92B0-D833659CEDB8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D008-BC57-4791-81AF-FC7591B694BD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C3A9-8BFB-41DA-BC91-6E0089363AB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SIRSI DYNIX SYMPHONY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The library automation system we need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Other Notable Features--</a:t>
            </a:r>
            <a:br>
              <a:rPr sz="4400"/>
            </a:b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nfOhio (SchoolRooms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The statewide library network in Ohio, INFOhio, and SirsiDynix launched a new learning site with an assortment of resource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All of these resources are available from one single portal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SchoolRooms has 70 rooms full of educational material where students can find information on almost any topic they are looking for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Teachers, students, and even parents have access to these room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Every INFOhio automated school has access to this portal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atalog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rsiDynix StaffWeb has cataloging abilities that support library staff in maintaining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itle and copy record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dd or maintain title, copy, and MARC record information for a titl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llows for cataloging reports for lost or missing reports, reading programs, and shelf list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ircul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765680" y="1600200"/>
            <a:ext cx="4000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0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SirsiDynix PocketCirc is a wireless handheld device that allows library staff to: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Conduct daily circulation procedures and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Inventory projects both online and offlin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All without having to be at a desktop workstation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3" name="Text Placeholder 12" descr=""/>
          <p:cNvPicPr/>
          <p:nvPr/>
        </p:nvPicPr>
        <p:blipFill>
          <a:blip r:embed="rId1"/>
          <a:srcRect l="537594" t="200671" r="0" b="335570"/>
          <a:stretch/>
        </p:blipFill>
        <p:spPr>
          <a:xfrm>
            <a:off x="304920" y="2362320"/>
            <a:ext cx="430524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ircul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SirsiDynix StaffWeb has circulation abilities to support library staff in: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Checking copies in and out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Screening the status of copi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Placing hold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Maintaining and screening patron account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Adding short title record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Allows for the following circulation reports: copies on loan, copies on hold, copy status, copies in transit, fine list, and overdue list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por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reports generated would be highly effective decision making tool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 have the ability to customize the reports to fit our need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program comes with more than 600 standard reports and utiliti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port Capabiliti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llection analys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Determine if the library holdings support the curriculum of the school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Periodically determine the age of the collecti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erials collection evaluati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cquisitions budge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Determine at any point in time the state of the budget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ircul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Determine usage of the collection, including overall numbers and statistics for particular subject areas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144360" y="152280"/>
            <a:ext cx="8825040" cy="6529680"/>
          </a:xfrm>
          <a:prstGeom prst="rect">
            <a:avLst/>
          </a:prstGeom>
          <a:ln w="0">
            <a:noFill/>
          </a:ln>
        </p:spPr>
      </p:pic>
      <p:sp>
        <p:nvSpPr>
          <p:cNvPr id="371" name="TextBox 9"/>
          <p:cNvSpPr/>
          <p:nvPr/>
        </p:nvSpPr>
        <p:spPr>
          <a:xfrm>
            <a:off x="1143000" y="6488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http://www.sirsidynix.com/Solutions/Products/integratedsystems.php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atr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SirsiDynix Symphony with the assistance of the PocketCirc benefits out patrons by: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Allowing new users to be registered on the spot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Continue helping patrons when network problems or power outages occur -- Circulation tasks can be completed in offline mode and uploaded at a later tim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Allows patrons to be assisted in finding materials and then receive on-the-spot checkout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Other Notable Features--</a:t>
            </a:r>
            <a:br>
              <a:rPr sz="4400"/>
            </a:b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hiliFresh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93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ChiliFresh Review Engine: a complete social network embedded directly in a library's catalog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Embed patron-written book reviews directly into catalog record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Incorporate a number of social networking features such as: profiles, content lists, chat and messaging options, and forums for book discussion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Users will utilize these features from The Bookshelf and will be able to gather and make reviews on favorite work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Recommendations and suggestions from friends and other users with related interests can be accessed from The Bookshelf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19:46:36Z</dcterms:created>
  <dc:creator>lisa brennan</dc:creator>
  <dc:description/>
  <dc:language>en-US</dc:language>
  <cp:lastModifiedBy>Jamie Fleming</cp:lastModifiedBy>
  <dcterms:modified xsi:type="dcterms:W3CDTF">2009-07-08T16:56:28Z</dcterms:modified>
  <cp:revision>9</cp:revision>
  <dc:subject/>
  <dc:title>Slide 1</dc:title>
</cp:coreProperties>
</file>